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0B65-C245-401A-BBFC-8B529E83C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75B9-71BF-4617-8BAF-8BB0D600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BE95-6F1C-4392-817F-BE0B0AAA3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B020-0658-4A47-8CC5-D688C166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4A4C-7749-4508-BB8C-3519BBC6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53EF-473F-4346-A2FF-6750A258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68E0-B1FA-4263-892D-81F3A84E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5CA2-C011-44F9-9DB0-50F575C7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9D90-12FE-4C2E-8387-996A0FD4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93F5-D91B-450B-A6BF-10898200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C046-6D6C-491D-85BC-90FEA2D9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36EF-B804-463B-970D-9B144DAC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2EAA-2A48-49B6-9E5D-9CCDDA20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8A14-50D3-4C32-8AD2-259319C5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EDBE-79AB-4269-AB1F-7ACFF9D1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9F7B-AD82-4EB1-A976-737A0973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50C9-BD95-40A4-A413-507CB0BD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3482-BD98-4B08-A7B4-84B614F0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3456-5C96-435B-8A85-3EDB9EB4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5AD1-A4BD-49BD-BCC5-DA4BFBC3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E863-624E-476A-B9ED-E641A65C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D53A-0B7F-4943-BF96-FBAA8E14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8506-FFD5-46DB-9625-F2BA2566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BA94-5C9B-4D76-9E91-E52EC31E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CC07-F67D-4BDD-BABF-8DEBA318EAA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D855-2F89-41AB-ABC4-FEA462EA9B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66"/>
                </a:solidFill>
                <a:latin typeface="Arial"/>
              </a:rPr>
              <a:t>Montpellier</a:t>
            </a:r>
            <a:endParaRPr b="0" lang="en-US" sz="9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67640" y="260280"/>
            <a:ext cx="1224000" cy="819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348000" y="2708280"/>
            <a:ext cx="293688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ntpelli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ontpellier se trouve en France, dans l’Hérault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380360" y="3357720"/>
            <a:ext cx="1224000" cy="819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00000" y="3357720"/>
            <a:ext cx="2448000" cy="2384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924360" y="4149720"/>
            <a:ext cx="3024000" cy="19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ntpelli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763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20% de la population sont des étudiant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236000" y="2997360"/>
            <a:ext cx="1382400" cy="2057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258920" y="2781360"/>
            <a:ext cx="1000080" cy="1279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124000" y="4365720"/>
            <a:ext cx="1285920" cy="1920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427640" y="4508640"/>
            <a:ext cx="22366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ntpelli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La ville a des événements sportifs important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42920" y="3213000"/>
            <a:ext cx="3600360" cy="2022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64000" y="4292640"/>
            <a:ext cx="30672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ntpelli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Les paysages de la région sont très beaux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2160720" cy="1527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195640" y="4653000"/>
            <a:ext cx="3816360" cy="1557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372360" y="3213000"/>
            <a:ext cx="223020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ntpelli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8920" y="1827360"/>
            <a:ext cx="712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ontpellier a de très bons transports public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263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42920" y="4581360"/>
            <a:ext cx="2376720" cy="1737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780000" y="314172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6300720" y="4656240"/>
            <a:ext cx="230364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ntpelli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ontpellier a de belles place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59280" y="3213000"/>
            <a:ext cx="2881080" cy="1952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56360" y="2565360"/>
            <a:ext cx="2592360" cy="1930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55640" y="3500280"/>
            <a:ext cx="2127240" cy="28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ntpelli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42920" y="182736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 Montpellier, il y a beaucoup d’artistes et de festival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00000" y="3284640"/>
            <a:ext cx="2089440" cy="2089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780000" y="4221000"/>
            <a:ext cx="1527120" cy="2197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443640" y="260280"/>
            <a:ext cx="2160720" cy="106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867280" y="3357720"/>
            <a:ext cx="243864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0:12:09Z</dcterms:created>
  <dc:creator>CEC</dc:creator>
  <dc:description/>
  <dc:language>en-US</dc:language>
  <cp:lastModifiedBy>CEC</cp:lastModifiedBy>
  <dcterms:modified xsi:type="dcterms:W3CDTF">2013-03-08T09:23:10Z</dcterms:modified>
  <cp:revision>28</cp:revision>
  <dc:subject/>
  <dc:title>Genève</dc:title>
</cp:coreProperties>
</file>